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CC5-90BF-4BCB-BBDD-A514D75B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C1E-B14E-4213-9829-7559E4AD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CBA-8228-467C-91CB-BCD80A05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CA2-E532-43B5-96BD-569A8F9A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ABCA-1705-4E76-B777-954644D1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B5B0-7263-4EBB-9271-CA56072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75E1-D45B-4582-8795-2EBCBD81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DD57-17AC-4F58-9B35-E53ADED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C4D4-55FA-452B-89B3-87C16F7E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0865-E3E8-4FD0-96DF-F50C10B7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C34-593B-483C-9BCD-0A8191C5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BF7-D739-4AFC-9780-7DEEFB55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8B1A-15E9-45C7-9B34-5CD7DD6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2F08-D0D3-40DD-9725-C6C71741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5225-A2CF-43F7-B16D-4A362C4B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521-0F8B-4CED-A75A-067E4F33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C036-3A68-4EE9-BDAA-BEB00364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6E0-C747-4C27-A4EA-58BB1F1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DDF-C663-4669-B2D9-8E5E29AE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A97-72BA-465D-96E8-0F1ED51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636-28FA-433C-A305-E77A8051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BB9-2AF5-4E9F-B11E-3D8FBC72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2F4-DB14-4457-9F80-C02AEDF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15F-6FA1-4C6C-8092-158116FB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45EE-0FB1-4B7E-A169-7A593394347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151-1A2E-4673-AD6E-308996248D0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ademic Counci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vember 13, 200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mplementation Timelin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3 Academic Council-Create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9 Department - Review/Edit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1 Submit Revisions to L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7 Faculty Meeting - Review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8-11/30 Classroom Walkthroug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5 Academic Council 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11 Department Mtg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mall Group 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162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1) What observable evidence of best practices and teaching methodologies to ensure student learning, should we see in any classroom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2) How do these connect with 21st Century Learning Skill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3) How do they connect to UbD &amp; DI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 of Frequ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ives a cycle of continuous improve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tter awareness of instructional strategies and school clim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egial (less hierarchal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aborati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requent visits lower teacher apprehension over ti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to 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consum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deal of paperwor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on only 1 tea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school-wide data colle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a school-wide snapsho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Walk-through Model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-5 minute classroom visi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t/Rubric to check-off observable evidence in the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d by teachers, for teachers, for school-wide impro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chool-wide snapshot, not focused on individual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collection is quick to provide immediate feedback for instructional grow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use Classroom Walkthroughs. . 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erates conversations about instruction and curriculu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s a springboard for professional development based on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attention on implementation of best practi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 for Developing Schoolwide Walk-Through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ubric is created by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partment Chairs participate in walk-through with administrato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ducted over a short (1 week) time perio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synthesiz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disseminated to all staff in a short time following the walkthroug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ions within Academic Council, Departments, Faculty Meetings about Instruction and Student Lear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uring the 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m observes a classroom for 5 minut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ring the observation they are noticing evidence that corresponds to their cha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y check-off what they se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ter the observation they quickly confer about the observation and align their chart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Chart Categor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structional Behavio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ecking for Understan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gnitive Strategi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gher Order Thinking Tas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ing Techniqu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assroom Environ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Rubric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2590920"/>
          <a:ext cx="8229600" cy="279072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838080"/>
                <a:gridCol w="914400"/>
                <a:gridCol w="914400"/>
                <a:gridCol w="838440"/>
                <a:gridCol w="990360"/>
                <a:gridCol w="990720"/>
                <a:gridCol w="685800"/>
              </a:tblGrid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assroom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mall Group Teaching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Higher Order Thinking 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’s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Reading Strategy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ech Integra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uick , Smooth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ransi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ear Rubric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9:24:10Z</dcterms:created>
  <dc:creator>Office 2004 Test Drive User</dc:creator>
  <dc:description/>
  <dc:language>en-US</dc:language>
  <cp:lastModifiedBy>Office 2004 Test Drive User</cp:lastModifiedBy>
  <cp:lastPrinted>2007-11-05T22:15:44Z</cp:lastPrinted>
  <dcterms:modified xsi:type="dcterms:W3CDTF">2007-11-13T22:00:17Z</dcterms:modified>
  <cp:revision>6</cp:revision>
  <dc:subject/>
  <dc:title>Classroom Walk-Through</dc:title>
</cp:coreProperties>
</file>